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275-6567-4D4B-93DC-793BB196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B1A-4EFE-4808-92E1-FBAD171A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932-E069-494A-BC3F-621C0AB6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D73-2B16-4821-B380-E73360F7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2E9-E5C4-4FE0-B19D-2CC37507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82B-1D9B-4FF5-A937-B6760A87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0F9-F717-4A26-B087-123815D0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090-A1BA-4F7A-94F1-0A48F5F7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845-6D10-40C9-AA35-7AA6C2E7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81B-0FAC-440C-BDE6-BFE4921E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2FB-B698-4BA8-BCB1-255C611F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1DC-1CED-4D51-8AF5-CE5A7512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B656-7E52-4618-A97B-73111053F25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0:04Z</dcterms:modified>
  <cp:revision>131</cp:revision>
  <dc:subject/>
  <dc:title>Lexical Analysis</dc:title>
</cp:coreProperties>
</file>